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483-471D-40ED-9B18-79E04CAF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A75-518E-4314-8B4B-4DE1AF94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F4B-2138-4377-92AB-38B26AAE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BF4-22A3-4E4E-9F34-22042534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5EC-EDD6-40B8-8E08-56D26C73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145-A276-4648-ABBB-F2BD3384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C3A-FDA7-40B7-ADD4-772ABEDF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586-27ED-4923-98F4-E551ECAD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DAC-114F-44B9-A53C-A9048EB3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17F-BC6E-40E2-98CD-C2008C82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FA3-8A2F-4A8B-A68B-2BE34E2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279-1731-404C-BF0F-E69C49ED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3239-FB43-4279-895A-C5761A652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a log cab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shot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rried Mary Tod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Washington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nted to end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lected 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ur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51640" y="4708440"/>
            <a:ext cx="1758960" cy="181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07200" y="228600"/>
            <a:ext cx="1036800" cy="141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50280" y="2668680"/>
            <a:ext cx="18223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ought in the Revolutionary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17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u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on December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17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0:11:10Z</dcterms:created>
  <dc:creator>smuser</dc:creator>
  <dc:description/>
  <dc:language>en-US</dc:language>
  <cp:lastModifiedBy>smuser</cp:lastModifiedBy>
  <dcterms:modified xsi:type="dcterms:W3CDTF">2010-02-04T20:20:54Z</dcterms:modified>
  <cp:revision>8</cp:revision>
  <dc:subject/>
  <dc:title>Slide 1</dc:title>
</cp:coreProperties>
</file>